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B0CD-1A23-42EE-A70B-715F81D36DF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8D0-C2FF-48D6-AB56-707CB6C065F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DDDC-7C51-4F16-8CE9-A17F6C5365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2C04-81D1-488D-8872-4246CC78D2C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2BEC-0D5D-43EC-A4AB-83B22624E8D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8E25-A6ED-46A2-A1AD-3BFC1C98545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CB0-8306-4429-BBB6-2CA25D4D619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DF2A-DD9C-479E-94C1-73F766A5D4C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FAF9-B0FE-41B2-B706-2D02541687B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3D7B-1BA0-4687-9E8E-7D869932612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C99-8E15-4653-B44A-EA483B55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750-60C8-4B6F-B551-B3FAA56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C5C-AE64-4606-A083-273DDFB5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FA5-91BE-4EF4-A1A3-AD9D0628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CA08-1D75-4DB0-B141-549C5F69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0DD9-5EEA-4D84-9BF4-81A63EC0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6FF2-E13F-45BA-BF40-333E5C2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33B-A1BC-4941-801C-7E3B833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86C0-455B-4568-8A47-E5CE949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B3D3-ADC7-408E-AAD7-CFE20D1C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4A5D-590F-4491-B510-B62B6D5E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FDB-4F52-47B6-BBDD-86BDC29F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B1D1-7323-4296-BB91-D7A5D68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BE83-FBC0-4F2D-A2B2-8D56DC3C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577B-7C51-47F0-9C65-E57FBEC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8EB9-CAE0-44E6-B9B3-FB9646FA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865B-718D-431D-9D56-69D062CE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B32E-12EB-46ED-9B2A-56F48EF4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340E-F185-4770-8145-F028960F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01AA-CA59-4203-8763-8791BE9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9640-2D3F-421F-88E5-7013373F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A3F0-A84D-4310-8DF7-A1C8B734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F32-EE35-4D42-8667-E540D0E8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0E43-D7DD-42DE-8C13-BA3CD9B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B671-0325-4A20-A976-F8CE8DB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177C-DA41-4F74-9FCA-257E9EAA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3F8B-A970-4EBE-872A-55BEB7E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EA47-4C63-4AA3-821F-D842101E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50AC-B4AC-4A6C-9E9A-8486A387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F6E2D-DEC0-4916-B0A2-6402127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9A7BC-4C5D-457D-907F-C978FA85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43BD-08BC-4562-B2B2-FCF9109B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0456-86A7-4BB3-9C7D-1E7E96AF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AF9-D2BA-46AF-8D05-DFA134D6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3F81-0031-4F83-BE6C-359FA19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3630-51A6-46C5-9459-4585DE59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56C13-9EF5-446C-A116-3EDD6670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99AF-B2C4-4836-B14A-2C3CF13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2B10-59B9-4E28-89E8-1EB2EBC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5275-83B6-499A-8835-B6AE4B3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929E-7226-4111-95DA-E1F0E1B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53DA-50AB-47DC-948D-0F12DA03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DBA4-FD8A-48D6-B2EF-8A9CB104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BBE-F4F5-4004-9F3E-24B00330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C1C-E8F4-4003-92E4-2F98F401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DAB-44A7-4826-B98D-996C10E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244-98F4-49CB-B476-9F4B4A51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2AD-3772-4734-9E6C-2FBB5E8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79EC-6041-4219-9925-DFFA2D3DD00D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A19E-782B-4032-8F80-68D5E046771D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A9E5-7E34-4076-B3E1-A9F31785C8D8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6E66-15DB-40D9-8575-C0FEC66C7D68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FC97-843C-418B-A539-3801BF5F7CBB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AE16-485C-409C-A87F-A96CF16104F3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BFFB-AA8A-4D1E-A1A0-F9AFBF87052D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F925-6239-42C9-A381-E7B2B3A5ACE5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84120" y="298440"/>
            <a:ext cx="7759800" cy="1322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 443 #2,3ac,5,6-9,10ae,11,1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Recall: We have used a </a:t>
            </a: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rection vector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that was parallel to the line to find an equa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ow we will use a vector perpendicular to the line called “the Normal Vector”,     to find an equation of the lin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5724360" y="5229360"/>
          <a:ext cx="287640" cy="73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229360"/>
                    <a:ext cx="2876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916360" y="3789360"/>
          <a:ext cx="2303280" cy="86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789360"/>
                    <a:ext cx="23032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alar Equation of a Line in a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7"/>
          <p:cNvGraphicFramePr/>
          <p:nvPr/>
        </p:nvGraphicFramePr>
        <p:xfrm>
          <a:off x="324000" y="4149720"/>
          <a:ext cx="78469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149720"/>
                    <a:ext cx="78469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2"/>
          <p:cNvGraphicFramePr/>
          <p:nvPr/>
        </p:nvGraphicFramePr>
        <p:xfrm>
          <a:off x="1547640" y="3141720"/>
          <a:ext cx="37450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141720"/>
                    <a:ext cx="3745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1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scalar equation of the line that passes through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oints P(8,2) and has a norm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190520" y="2951280"/>
          <a:ext cx="650412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951280"/>
                    <a:ext cx="650412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21" name="Straight Arrow Connector 10"/>
          <p:cNvCxnSpPr/>
          <p:nvPr/>
        </p:nvCxnSpPr>
        <p:spPr>
          <a:xfrm flipH="1">
            <a:off x="2987280" y="3789360"/>
            <a:ext cx="50544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222" name="Object 6"/>
          <p:cNvGraphicFramePr/>
          <p:nvPr/>
        </p:nvGraphicFramePr>
        <p:xfrm>
          <a:off x="5364000" y="2349360"/>
          <a:ext cx="151308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15130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artesian equation of each of the follow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l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1042920" y="2981160"/>
          <a:ext cx="58327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81160"/>
                    <a:ext cx="58327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5"/>
          <p:cNvGraphicFramePr/>
          <p:nvPr/>
        </p:nvGraphicFramePr>
        <p:xfrm>
          <a:off x="2124000" y="2421000"/>
          <a:ext cx="251928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421000"/>
                    <a:ext cx="25192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b) The line passes through (-6,3) and parallel to the l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2x-3y+5=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2556000" y="2781360"/>
          <a:ext cx="406548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781360"/>
                    <a:ext cx="406548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6"/>
          <p:cNvCxnSpPr/>
          <p:nvPr/>
        </p:nvCxnSpPr>
        <p:spPr>
          <a:xfrm flipV="1">
            <a:off x="2195640" y="3645000"/>
            <a:ext cx="2160" cy="27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0"/>
          <p:cNvCxnSpPr/>
          <p:nvPr/>
        </p:nvCxnSpPr>
        <p:spPr>
          <a:xfrm>
            <a:off x="2050920" y="5732640"/>
            <a:ext cx="3385440" cy="3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0" name="Straight Connector 12"/>
          <p:cNvSpPr/>
          <p:nvPr/>
        </p:nvSpPr>
        <p:spPr>
          <a:xfrm>
            <a:off x="1763640" y="3789360"/>
            <a:ext cx="3024360" cy="237636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9"/>
          <p:cNvSpPr/>
          <p:nvPr/>
        </p:nvSpPr>
        <p:spPr>
          <a:xfrm flipV="1">
            <a:off x="3419640" y="3644640"/>
            <a:ext cx="0" cy="1439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3492360" y="3500280"/>
          <a:ext cx="8794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500280"/>
                    <a:ext cx="879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4"/>
          <p:cNvGraphicFramePr/>
          <p:nvPr/>
        </p:nvGraphicFramePr>
        <p:xfrm>
          <a:off x="3635280" y="3067200"/>
          <a:ext cx="1081080" cy="40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067200"/>
                    <a:ext cx="1081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3564000" y="4581360"/>
          <a:ext cx="91908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4581360"/>
                    <a:ext cx="919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Straight Connector 25"/>
          <p:cNvSpPr/>
          <p:nvPr/>
        </p:nvSpPr>
        <p:spPr>
          <a:xfrm flipH="1" flipV="1">
            <a:off x="2987280" y="4365360"/>
            <a:ext cx="144360" cy="142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6"/>
          <p:cNvGraphicFramePr/>
          <p:nvPr/>
        </p:nvGraphicFramePr>
        <p:xfrm>
          <a:off x="324000" y="3213000"/>
          <a:ext cx="2017440" cy="34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3213000"/>
                    <a:ext cx="20174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51" name="Straight Arrow Connector 33"/>
          <p:cNvCxnSpPr/>
          <p:nvPr/>
        </p:nvCxnSpPr>
        <p:spPr>
          <a:xfrm flipH="1">
            <a:off x="2483640" y="3500280"/>
            <a:ext cx="2520" cy="650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2" name="TextBox 34"/>
          <p:cNvSpPr/>
          <p:nvPr/>
        </p:nvSpPr>
        <p:spPr>
          <a:xfrm>
            <a:off x="539640" y="2133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istance formula from a point,Q, to a line can be derived (below ) from the Scalar Proj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7"/>
          <p:cNvGraphicFramePr/>
          <p:nvPr/>
        </p:nvGraphicFramePr>
        <p:xfrm>
          <a:off x="6875640" y="2492280"/>
          <a:ext cx="129672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5640" y="2492280"/>
                    <a:ext cx="12967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traight Connector 37"/>
          <p:cNvSpPr/>
          <p:nvPr/>
        </p:nvSpPr>
        <p:spPr>
          <a:xfrm flipV="1">
            <a:off x="3419640" y="3573000"/>
            <a:ext cx="0" cy="1368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40"/>
          <p:cNvSpPr/>
          <p:nvPr/>
        </p:nvSpPr>
        <p:spPr>
          <a:xfrm flipH="1" flipV="1">
            <a:off x="2339640" y="3429000"/>
            <a:ext cx="144360" cy="71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4"/>
          <p:cNvSpPr/>
          <p:nvPr/>
        </p:nvSpPr>
        <p:spPr>
          <a:xfrm flipH="1">
            <a:off x="2987280" y="4508640"/>
            <a:ext cx="144360" cy="215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46"/>
          <p:cNvCxnSpPr/>
          <p:nvPr/>
        </p:nvCxnSpPr>
        <p:spPr>
          <a:xfrm flipV="1">
            <a:off x="2770560" y="3357360"/>
            <a:ext cx="793080" cy="1296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9" name="Oval 50"/>
          <p:cNvSpPr/>
          <p:nvPr/>
        </p:nvSpPr>
        <p:spPr>
          <a:xfrm>
            <a:off x="3348000" y="3573360"/>
            <a:ext cx="71640" cy="71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2771640" y="3789360"/>
          <a:ext cx="23364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3789360"/>
                    <a:ext cx="2336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2"/>
          <p:cNvGraphicFramePr/>
          <p:nvPr/>
        </p:nvGraphicFramePr>
        <p:xfrm>
          <a:off x="1665360" y="2060640"/>
          <a:ext cx="33717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5360" y="2060640"/>
                    <a:ext cx="33717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tance Formula from a point (x</a:t>
            </a:r>
            <a:r>
              <a:rPr b="0" lang="en-CA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1,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y</a:t>
            </a:r>
            <a:r>
              <a:rPr b="0" lang="en-CA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1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to the line Ax+By+Cz=0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1763640" y="3357720"/>
          <a:ext cx="37418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357720"/>
                    <a:ext cx="37418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3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distance from P(-4,2) to the l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979640" y="2709720"/>
          <a:ext cx="418788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9720"/>
                    <a:ext cx="418788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"/>
          <p:cNvGraphicFramePr/>
          <p:nvPr/>
        </p:nvGraphicFramePr>
        <p:xfrm>
          <a:off x="6012000" y="2019240"/>
          <a:ext cx="21254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019240"/>
                    <a:ext cx="2125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07T21:09:32Z</dcterms:modified>
  <cp:revision>257</cp:revision>
  <dc:subject/>
  <dc:title>2.2 Derivatives of Polynomial Functions</dc:title>
</cp:coreProperties>
</file>